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9AA3-2118-4456-B355-EA971063D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6034-F331-423E-A05B-117677C4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AB98-8318-4070-849E-3F7468DD3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27E6-22BD-4D0A-9F93-47DC7B9CC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2397-7A5B-425A-A6FA-B0C3FF9F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0DE6-67DB-4A3D-BE0F-70816137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8B51-9E21-4860-99E9-1B88F3C6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833C-EDD2-448E-A837-39252C1D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B95E-97B4-4105-8D4F-C541F9B5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9ABA-C030-40AE-B4D4-4232417C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9423-D8E8-4B88-9595-FD3C5B82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218C-9CF1-47F2-9C60-D34BE079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9EFE-9420-4E43-A05C-992718593EE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utor2u.net/blog/index.php/economics/C222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798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ultiplier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0920" y="115920"/>
            <a:ext cx="8642160" cy="67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Accelerator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lerator eff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s how the level of spending o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apital invest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influenced by how quickly demand is growing in the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 business or an industry where demand is rising at a strong 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ms will respond to growing demand 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anding produ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making fuller use of thei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isting productive capa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may also choose to meet higher demand 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 down their stock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finished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some point – and if they feel that the higher level of demand will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stain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y may choose to increase spending on new capital goods such as plant and machinery, factories and new technology in order to increase thei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nvestment goes beyond what is needed simply to replace worn out, fully depreciated machinery, then the capital stock of the business will become lar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crease in C is leading to an increase in I and further increase in 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23640" y="189000"/>
            <a:ext cx="36716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Multiplier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ere an increase or decrease in spending leads to a larger than proportionate change in the national inc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n initial change in AD can have a much greater change in national income (GD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jections of new demand for goods and services into the circular flow of income can stimulate further rounds of spe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other words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ne person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 spending is another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 income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– and this can lead to a bigger eventual effect on output and employm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3"/>
          <p:cNvSpPr/>
          <p:nvPr/>
        </p:nvSpPr>
        <p:spPr>
          <a:xfrm>
            <a:off x="4643280" y="5373720"/>
            <a:ext cx="38163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ultiplier effec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an increase or decrease in spending leads to a larger than proportionate change in national in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5" descr="screen-capture-4"/>
          <p:cNvPicPr/>
          <p:nvPr/>
        </p:nvPicPr>
        <p:blipFill>
          <a:blip r:embed="rId1"/>
          <a:stretch/>
        </p:blipFill>
        <p:spPr>
          <a:xfrm>
            <a:off x="3995640" y="1150920"/>
            <a:ext cx="520704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78920" y="61560"/>
            <a:ext cx="74883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Multiplier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ider a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£300 million increase in capital inve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xample created when an overseas company decides to build a new production plant in the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may set off a chain reaction of increases in expendi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ms who produce the capital goods                                          and construction businesses who win                                   contracts to build the new factory will                                   experience an increase in their                                          incomes and prof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y and their employees in turn,                                      collectively spend about 3/5 of that                                         additional income, then £180m will be                                    added to the incomes of oth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this point, total income has grown by                          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£300m + (0.6 x £300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um will continue to increase as                                            the producers of the additional goods                                             and services realize an increase in their incomes, of which they in turn spend 60% on even more goods and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increase in total income will then be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£300m + (0.6 x £300m) + (0.6 x £180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time, the additional rise in spending and income is a fraction of the previous addition to the circular flo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4950000" y="1700280"/>
            <a:ext cx="425124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79280" y="61560"/>
            <a:ext cx="5616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9999"/>
                </a:solidFill>
                <a:latin typeface="Arial"/>
              </a:rPr>
              <a:t>The Multiplier and Keynesian Econom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concept of the multiplier process became important in the 1930s when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Keynes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ggested it as a tool to help governments to maintain high levels of employ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200" spc="-1" strike="noStrike">
                <a:solidFill>
                  <a:srgbClr val="9900ff"/>
                </a:solidFill>
                <a:latin typeface="Arial"/>
              </a:rPr>
              <a:t>demand-managemen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pproach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was designed to help overcome a shortage of capital invest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t measured the amount of government spending needed to reach a level of national income that would prevent unemploy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higher the </a:t>
            </a:r>
            <a:r>
              <a:rPr b="1" lang="en-GB" sz="2200" spc="-1" strike="noStrike">
                <a:solidFill>
                  <a:srgbClr val="9900ff"/>
                </a:solidFill>
                <a:latin typeface="Arial"/>
              </a:rPr>
              <a:t>propensity to consume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mestically produced goods and services, the greater is the multiplier eff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government can influence the size of the multiplier through changes in direct tax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r example, a cut in the rate of income tax will increase the amount of extra income that can be spent on further goods and servic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recession-4a-300x300"/>
          <p:cNvPicPr/>
          <p:nvPr/>
        </p:nvPicPr>
        <p:blipFill>
          <a:blip r:embed="rId1"/>
          <a:stretch/>
        </p:blipFill>
        <p:spPr>
          <a:xfrm>
            <a:off x="6084720" y="162864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78920" y="72720"/>
            <a:ext cx="52563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f people are given extra money do you think they are guaranteed to spend it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No, it depends on their propensity to consumer (or their propensity to sav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n 2010 Obama gave Americans a tax holiday but it didn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 help growth much because they just used it to pay debt and to bolster their saving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n 2011 he extended the tax holiday arguing that it would prevent the US economy from going into a recess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He was managing demand; increasing AD by increasing consum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 success of this policy will depend on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 American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 propensity to consum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image4698482x"/>
          <p:cNvPicPr/>
          <p:nvPr/>
        </p:nvPicPr>
        <p:blipFill>
          <a:blip r:embed="rId1"/>
          <a:stretch/>
        </p:blipFill>
        <p:spPr>
          <a:xfrm>
            <a:off x="5319720" y="1677960"/>
            <a:ext cx="380988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8920" y="61560"/>
            <a:ext cx="52563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Factors affecting the size of the multiplier -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nother factor affecting the size of the multiplier effect is the </a:t>
            </a:r>
            <a:r>
              <a:rPr b="1" lang="en-GB" sz="2200" spc="-1" strike="noStrike">
                <a:solidFill>
                  <a:srgbClr val="9900ff"/>
                </a:solidFill>
                <a:latin typeface="Arial"/>
              </a:rPr>
              <a:t>propensity to purchase imports</a:t>
            </a:r>
            <a:r>
              <a:rPr b="0" lang="en-GB" sz="2200" spc="-1" strike="noStrike">
                <a:solidFill>
                  <a:srgbClr val="9900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, out of extra income, people spend their money on imports, this demand is not passed on in the form of fresh spending on domestically produced outpu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t leaks away from the circular flow of income and spending, reducing the size of the multipli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UK has a large propensity to consume imp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multiplier process also requires that there is </a:t>
            </a:r>
            <a:r>
              <a:rPr b="1" lang="en-GB" sz="2200" spc="-1" strike="noStrike">
                <a:solidFill>
                  <a:srgbClr val="9900ff"/>
                </a:solidFill>
                <a:latin typeface="Arial"/>
              </a:rPr>
              <a:t>sufficient spare capacity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the economy for extra output to be produ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 there is little spare capacity the multiplier will just cause demand pull infl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Fashion-blog460"/>
          <p:cNvPicPr/>
          <p:nvPr/>
        </p:nvPicPr>
        <p:blipFill>
          <a:blip r:embed="rId1"/>
          <a:stretch/>
        </p:blipFill>
        <p:spPr>
          <a:xfrm>
            <a:off x="5362560" y="2104920"/>
            <a:ext cx="375300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80800" y="315720"/>
            <a:ext cx="34556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Factors affecting the size of the multiplier -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ultiplier effect will be larger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pensity to spend extra income on domestic goods and services i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arginal rate of tax on extra income is 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pensity to spend extra income rather than save is hig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spend-or-save"/>
          <p:cNvPicPr/>
          <p:nvPr/>
        </p:nvPicPr>
        <p:blipFill>
          <a:blip r:embed="rId1"/>
          <a:stretch/>
        </p:blipFill>
        <p:spPr>
          <a:xfrm>
            <a:off x="3878280" y="1461960"/>
            <a:ext cx="52452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94920" y="226800"/>
            <a:ext cx="50403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Time lags (eval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important to remember that the multiplier effect will take time to come into full eff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good example is the fiscal stimulus introduced into the US economy by the Obama gover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have set aside many billions of dollars of extra spending on infrastructure spending but these sorts of capital projects can take months if not years to be comple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lays in sourcing raw materials, components and finding sufficient skilled labour can limit the initial impact of the spending proje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Supply_Chain_Management_Ch3_Pt3_Time_Lags"/>
          <p:cNvPicPr/>
          <p:nvPr/>
        </p:nvPicPr>
        <p:blipFill>
          <a:blip r:embed="rId1"/>
          <a:stretch/>
        </p:blipFill>
        <p:spPr>
          <a:xfrm>
            <a:off x="5651640" y="1484280"/>
            <a:ext cx="33051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94920" y="226800"/>
            <a:ext cx="50403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Accelerator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AS you d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 need to know much about the accelerator effect but this diagram summaris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blog-econ-asworkshop-session1"/>
          <p:cNvPicPr/>
          <p:nvPr/>
        </p:nvPicPr>
        <p:blipFill>
          <a:blip r:embed="rId1"/>
          <a:stretch/>
        </p:blipFill>
        <p:spPr>
          <a:xfrm>
            <a:off x="901800" y="1822320"/>
            <a:ext cx="7486560" cy="5105520"/>
          </a:xfrm>
          <a:prstGeom prst="rect">
            <a:avLst/>
          </a:prstGeom>
          <a:ln w="0">
            <a:noFill/>
          </a:ln>
        </p:spPr>
      </p:pic>
      <p:sp>
        <p:nvSpPr>
          <p:cNvPr id="59" name="TextBox 1"/>
          <p:cNvSpPr/>
          <p:nvPr/>
        </p:nvSpPr>
        <p:spPr>
          <a:xfrm>
            <a:off x="5435640" y="0"/>
            <a:ext cx="3457440" cy="17398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ccelerator effe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he principle states that a given change in demand for consumer goods will cause a greater percentage change in demand for capital goods (more I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5:32:27Z</dcterms:created>
  <dc:creator>Rom</dc:creator>
  <dc:description/>
  <dc:language>en-US</dc:language>
  <cp:lastModifiedBy>Julia</cp:lastModifiedBy>
  <dcterms:modified xsi:type="dcterms:W3CDTF">2013-10-26T12:34:33Z</dcterms:modified>
  <cp:revision>8</cp:revision>
  <dc:subject/>
  <dc:title>Slide 1</dc:title>
</cp:coreProperties>
</file>